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2DF-09B0-4A60-9EE7-CB1F905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EAF-1E5F-4168-92AB-EA53A96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A16-58E9-41EA-A0CA-E602849E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C82-012C-4C1A-8AED-D2EE53F6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F67C-1E63-4AE5-813C-2281B6E5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C53-E779-46EB-986D-4DB6029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9B5-7685-46D5-814C-A3E41573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D05D-D1D9-4D66-9CEF-AC73FC23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BFFA-F39E-4B3A-94B8-AD8AFC6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B95-B01D-4BD1-B4E3-C27D2C5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F71D-F1B3-4C13-83FF-6A64807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192-D45A-4C38-8835-167E7C3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D6FF-027C-43D8-9B79-FD311B96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AF76-EC77-4A42-AEEE-863455B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7DD-186B-4D01-B378-F1B9900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FDC-E95E-44EA-9BD4-93AFA2F5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716-887A-48DD-9231-BE7A87D1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97AD-B560-4933-B05D-6D57586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10BF-54FF-4C3F-B06E-8C3B2101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2D1D-41C3-4E03-9A2B-0701BBB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AB7-6E29-4F91-AF5D-25A1F1CA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5735-D6F5-40DD-B1A3-D0E4353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F3-A84D-49DA-ABF6-C0FB8411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9ABC-6041-48AB-B4DC-B97BC0C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8A0D-9B12-49B2-B6DB-F5F2D9F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C3CC-D8A5-46B9-97E7-9F1FFAD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50EE-D968-4AC8-85C0-691E5D17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6883-7A2B-4140-B98D-8C74500C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08A9-2E3F-404D-BF4B-61932B9A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4ACF-11DB-486E-A320-F3EDF9E4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A3F8-1E53-48CA-8564-28BB906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7897-9625-45D2-9AD1-D9B98A4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2938-EDC6-41CF-B4E5-5863E8EB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6C8-58E7-4B3F-AE95-FAC8BCF3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CA1C-BAED-4D58-ACA9-2B2FAE50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0113-F70D-4442-8348-52003A2C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7BCA-B538-413D-AF58-E5A2658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DB0C-6800-46D7-9936-8C9E9D3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D319-B5E2-4A4E-ADA4-BD38F986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1433-7A40-4FD5-A396-3E64BBA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04AD-7285-4253-99A1-B759B059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CF03-1133-441E-A592-BFF9B54F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5F4B-5F4A-487F-8457-95178F99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0FCE-4D21-4BBC-8CDA-38E3439F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88D-3555-45CF-94B0-04ADC05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D88A-C686-4415-98F4-EA35967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F62E7-2F40-4046-8B24-9AC3770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E35D-2049-4C5B-B414-3993555B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2FB6-6473-4473-9AB3-B0F43E4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CB20C-0E72-4DA4-AB34-9942A0B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A13C-176C-419A-9E57-933B4B3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CA2D-54AD-432C-B8F9-22845C8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B993-E6C8-468F-A1A7-6FB5DE41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9710-9B57-43D4-A8FE-A558E49F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2409-2536-4F08-B23F-DD81982C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ADB-02FE-49A8-A3F0-87B16E7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16C9-16CB-4576-B77D-C31A97D0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2422-628B-441E-B671-FC144AD8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6596-33B9-4A3C-9578-D8594E11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AB8A-5EE5-4D4E-8AFC-143E55C9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44A6-6B95-4518-9664-CAE97546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8A65-8C7A-449A-A70F-51D284E6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CD9E-7612-4FE9-8CA3-76DFFC7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37B3-99D5-44A9-9D22-20F672C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D23E-A5E0-4D67-955C-C8D7DAE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01FF-9F88-4C9D-A6F6-5546290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905-24FA-46B6-BC5C-D17ECC4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8E10-3B76-454D-BF2A-85F1E34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3552-B918-4E2D-AAAF-C6A6D3BB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2A38-AFE7-482C-AB52-5543DCF7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035-03FC-427C-AE55-CA38C65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7BD-5C27-4273-8056-5943B607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3124080"/>
            <a:ext cx="6476760" cy="191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5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00360"/>
            <a:ext cx="19839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59280" y="6300360"/>
            <a:ext cx="38127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75320" y="6300360"/>
            <a:ext cx="68544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BAF66-C59E-4794-9C52-EA2F69B871BE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DA1EB2-22F1-42D1-926E-9C50BF1D4AE1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1F783-9F71-46D5-B35C-5CA998D58C47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46C4C5-8675-46B2-ACE5-D4382EB2C1F3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645080" y="173520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body"/>
          </p:nvPr>
        </p:nvSpPr>
        <p:spPr>
          <a:xfrm>
            <a:off x="4645080" y="387108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body"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dt" idx="13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4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5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D3EDC-23B9-4CD5-8694-D45F46281965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3"/>
          <p:cNvGrpSpPr/>
          <p:nvPr/>
        </p:nvGrpSpPr>
        <p:grpSpPr>
          <a:xfrm>
            <a:off x="156960" y="3301200"/>
            <a:ext cx="4401000" cy="3464640"/>
            <a:chOff x="156960" y="3301200"/>
            <a:chExt cx="4401000" cy="3464640"/>
          </a:xfrm>
        </p:grpSpPr>
        <p:sp>
          <p:nvSpPr>
            <p:cNvPr id="209" name="Rectangle 14"/>
            <p:cNvSpPr/>
            <p:nvPr/>
          </p:nvSpPr>
          <p:spPr>
            <a:xfrm rot="21214200">
              <a:off x="312840" y="3520440"/>
              <a:ext cx="4087800" cy="30171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 rot="21214200">
              <a:off x="313200" y="3520440"/>
              <a:ext cx="4087800" cy="30258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path path="rect">
                <a:fillToRect l="0" t="0" r="100000" b="100000"/>
              </a:path>
            </a:gradFill>
            <a:ln>
              <a:noFill/>
            </a:ln>
            <a:effectLst>
              <a:innerShdw blurRad="190500" dir="13500000" dist="88900">
                <a:schemeClr val="bg1">
                  <a:lumMod val="65000"/>
                  <a:alpha val="25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 rot="21214200">
            <a:off x="491040" y="3682440"/>
            <a:ext cx="3703680" cy="269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icon to add picture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71640" y="106560"/>
            <a:ext cx="4283280" cy="3295440"/>
            <a:chOff x="71640" y="106560"/>
            <a:chExt cx="4283280" cy="3295440"/>
          </a:xfrm>
        </p:grpSpPr>
        <p:sp>
          <p:nvSpPr>
            <p:cNvPr id="213" name="Rectangle 10"/>
            <p:cNvSpPr/>
            <p:nvPr/>
          </p:nvSpPr>
          <p:spPr>
            <a:xfrm rot="232800">
              <a:off x="169560" y="241200"/>
              <a:ext cx="4087800" cy="30171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 rot="232800">
              <a:off x="169200" y="241200"/>
              <a:ext cx="4087800" cy="30258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path path="rect">
                <a:fillToRect l="0" t="0" r="100000" b="100000"/>
              </a:path>
            </a:gradFill>
            <a:ln>
              <a:noFill/>
            </a:ln>
            <a:effectLst>
              <a:innerShdw blurRad="190500" dir="13500000" dist="88900">
                <a:schemeClr val="bg1">
                  <a:lumMod val="65000"/>
                  <a:alpha val="25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</p:grp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 rot="232800">
            <a:off x="346680" y="402840"/>
            <a:ext cx="3703680" cy="269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icon to add picture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4601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5013360" y="2700000"/>
            <a:ext cx="3565800" cy="21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dt" idx="16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ftr" idx="17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 type="sldNum" idx="18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F350C9-B5E6-44F3-9A6C-2DF4B04F23C1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anoramio.com/photo/26176178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3124080"/>
            <a:ext cx="6476760" cy="191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5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Ernest Hemingway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09680" y="5056560"/>
            <a:ext cx="6476760" cy="1173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Hemingway’s death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July 2 1961 by suicide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ather had committed suicide in the same fashion years earlier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Writing Style</a:t>
            </a: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oncise, short, lots of dialogu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escription of landscape has importance to story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llows the ‘iceberg theory’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Gives little information, but most of his meaning is underneath the word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as also known for ‘flash fiction’ –very very short story. His most famous one: “For sale. Baby shoes. Never worn.”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Placeholder 9" descr="images.jpg"/>
          <p:cNvPicPr/>
          <p:nvPr/>
        </p:nvPicPr>
        <p:blipFill>
          <a:blip r:embed="rId1"/>
          <a:srcRect l="0" t="-14983" r="0" b="-14983"/>
          <a:stretch/>
        </p:blipFill>
        <p:spPr>
          <a:xfrm rot="21214200">
            <a:off x="191520" y="3432600"/>
            <a:ext cx="4333680" cy="315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8" descr="images-1.jpg"/>
          <p:cNvPicPr/>
          <p:nvPr/>
        </p:nvPicPr>
        <p:blipFill>
          <a:blip r:embed="rId2"/>
          <a:srcRect l="-18657" t="0" r="-18657" b="0"/>
          <a:stretch/>
        </p:blipFill>
        <p:spPr>
          <a:xfrm rot="232800">
            <a:off x="21240" y="150120"/>
            <a:ext cx="4560120" cy="3320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4601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Goudy Old Style"/>
              </a:rPr>
              <a:t>`</a:t>
            </a:r>
            <a:endParaRPr b="0" lang="en-US" sz="4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3360" y="2700000"/>
            <a:ext cx="3565800" cy="21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95" name="Picture 10" descr="imgres.jpg"/>
          <p:cNvPicPr/>
          <p:nvPr/>
        </p:nvPicPr>
        <p:blipFill>
          <a:blip r:embed="rId3"/>
          <a:stretch/>
        </p:blipFill>
        <p:spPr>
          <a:xfrm>
            <a:off x="5013360" y="516240"/>
            <a:ext cx="382536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Early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Born in Oak Park Illinois in 1899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</a:pPr>
            <a:r>
              <a:rPr b="0" lang="en-US" sz="2000" spc="-1" strike="noStrike" u="sng">
                <a:solidFill>
                  <a:srgbClr val="c47810"/>
                </a:solidFill>
                <a:uFillTx/>
                <a:latin typeface="Goudy Old Style"/>
                <a:hlinkClick r:id="rId3"/>
              </a:rPr>
              <a:t>Hemingway birthplace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Wrote for the school newspaper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areer began writing for a newspaper in Kansas City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6"/>
          <a:stretch/>
        </p:blipFill>
        <p:spPr>
          <a:xfrm>
            <a:off x="4480560" y="1735200"/>
            <a:ext cx="3747240" cy="34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Military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Joined a voluntary ambulance corps for the Italian army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erved at the front and was wounded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pent considerable amount of time in hospitals (was background for Farewell to Arms)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et Agnes von Kurowsky- a nurse with whom he fell in love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1181160" y="2006640"/>
            <a:ext cx="2721960" cy="45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Paris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et Hadley Richardson in Chicago and was married to her in 1921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came the foreign correspondent for Toronto Star and they moved to Pari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ved in a circle of expatriates and authors including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Gertrude Stein, Ezra Pound, Sylvia Beach, James Joyce and F. Scott Fitzgerald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Wrote many of his early short stories here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Love Life and Key Wes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ell in love with Pauline Pfeiffer-divorced Hadley-married Paulin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ved to Key Wes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orked on his novel Farewell to Arm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pent much of his time deep sea fishing and went on a safari to Africa to do big game hunting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5080" y="173520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5080" y="387108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75" name="Picture 13" descr=""/>
          <p:cNvPicPr/>
          <p:nvPr/>
        </p:nvPicPr>
        <p:blipFill>
          <a:blip r:embed="rId1"/>
          <a:stretch/>
        </p:blipFill>
        <p:spPr>
          <a:xfrm>
            <a:off x="914400" y="1735200"/>
            <a:ext cx="3876120" cy="4055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2"/>
          <a:stretch/>
        </p:blipFill>
        <p:spPr>
          <a:xfrm>
            <a:off x="5042520" y="1735200"/>
            <a:ext cx="3168720" cy="2289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"/>
          <p:cNvPicPr/>
          <p:nvPr/>
        </p:nvPicPr>
        <p:blipFill>
          <a:blip r:embed="rId3"/>
          <a:stretch/>
        </p:blipFill>
        <p:spPr>
          <a:xfrm>
            <a:off x="5640120" y="4025160"/>
            <a:ext cx="2009160" cy="23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War Tim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ed to Spain to report on the Spanish Civil War and met a journalist- Martha Gellhorn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ivorced Pauline-married Martha and moved to Cuba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gan writing For Whom the Bell Toll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led with Martha throughout beginning of WWII not always in the same place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et another correspondent – Mary Walsh ….married her next after a divorce from Martha Gellhorn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uba and the later years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eturned to Cuba with Mary and worked on The Garden of Eden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led to Africa again on safari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xperienced some devastating accidents that left him scarred for the rest of his lif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on the Nobel Prize in Literature in 1954 for Old Man and the Sea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Placeholder 12" descr="images-1.jpg"/>
          <p:cNvPicPr/>
          <p:nvPr/>
        </p:nvPicPr>
        <p:blipFill>
          <a:blip r:embed="rId1"/>
          <a:srcRect l="-36508" t="0" r="-36508" b="0"/>
          <a:stretch/>
        </p:blipFill>
        <p:spPr>
          <a:xfrm rot="20556000">
            <a:off x="0" y="403200"/>
            <a:ext cx="3703320" cy="269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351720" y="3668760"/>
            <a:ext cx="2839320" cy="2859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3"/>
          <a:stretch/>
        </p:blipFill>
        <p:spPr>
          <a:xfrm>
            <a:off x="5690160" y="3736440"/>
            <a:ext cx="3361320" cy="2791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images.jpg"/>
          <p:cNvPicPr/>
          <p:nvPr/>
        </p:nvPicPr>
        <p:blipFill>
          <a:blip r:embed="rId4"/>
          <a:stretch/>
        </p:blipFill>
        <p:spPr>
          <a:xfrm rot="517800">
            <a:off x="5643000" y="555840"/>
            <a:ext cx="3238200" cy="2514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5"/>
          <a:stretch/>
        </p:blipFill>
        <p:spPr>
          <a:xfrm>
            <a:off x="2954160" y="1256040"/>
            <a:ext cx="3161160" cy="40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kwell.thmx</Template>
  <TotalTime>1308</TotalTime>
  <Application>LibreOffice/7.4.7.2$Linux_X86_64 LibreOffice_project/40$Build-2</Application>
  <AppVersion>15.0000</AppVersion>
  <Words>381</Words>
  <Paragraphs>43</Paragraphs>
  <Company>Peoria Notre Dame High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9:07:36Z</dcterms:created>
  <dc:creator>ndadmin</dc:creator>
  <dc:description/>
  <dc:language>en-US</dc:language>
  <cp:lastModifiedBy>Katie Hausauer</cp:lastModifiedBy>
  <dcterms:modified xsi:type="dcterms:W3CDTF">2014-10-22T19:39:03Z</dcterms:modified>
  <cp:revision>4</cp:revision>
  <dc:subject/>
  <dc:title>Ernest Hemingw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